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AFC5-1869-45BA-B664-9C0051B37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CE6C-3C27-4E88-A4E6-AA449EA09E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A34-DAB3-4928-97E9-FA5F4146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CE0-BBC3-457A-AC27-F6BFBFBD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8BD-F5FD-46A4-AE92-F4CF5419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C78-BE70-4945-92F8-F6213490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B3E5-931D-41B4-AC49-651B8EFC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41B-E1BE-4D8D-99B6-C249A2B2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69B-023F-4092-BFB5-E0712A37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5E0-1BD4-4297-99AB-9AEC1388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C99-2274-4888-AC06-29EC4F17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F92-62D2-4CC4-9B64-ECBE511E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EA2-B4F2-4EBB-A70D-59D70F51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A88-46BF-4B04-936E-FEA07716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C3F2-8BCD-4F7A-91BA-6D61A02C4C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Administrator\Local Settings\Temporary Internet Files\Content.IE5\2QEQ1ZX6\MCj04382510000[1].wmf"/>
          <p:cNvPicPr/>
          <p:nvPr/>
        </p:nvPicPr>
        <p:blipFill>
          <a:blip r:embed="rId2"/>
          <a:stretch/>
        </p:blipFill>
        <p:spPr>
          <a:xfrm>
            <a:off x="1554120" y="1295280"/>
            <a:ext cx="585936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What Goes Up Must Come 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31240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A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Jester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Century Learning Experienc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eresa Cannady, Kay Jon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ladys Jones, Brenna Tak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ways to help students write a script for their video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help assessing students’ higher order thinking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71600" y="746280"/>
            <a:ext cx="6705720" cy="5203800"/>
          </a:xfrm>
          <a:prstGeom prst="rect">
            <a:avLst/>
          </a:prstGeom>
          <a:ln w="0">
            <a:noFill/>
          </a:ln>
        </p:spPr>
      </p:pic>
      <p:pic>
        <p:nvPicPr>
          <p:cNvPr id="71" name="MSSN00435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Jester"/>
              </a:rPr>
              <a:t>Weather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ester"/>
              </a:rPr>
              <a:t>Unit Summa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sing prior knowledge of weather students will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cipate in a weather web ques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gage in  interactive notebook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ory and post it on a blog or 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 a weather instru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udent  video productio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Curriculum-Framing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Essential Ques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change necessary?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Uni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the water cycle and weather relat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weather affect our everyday lif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Conten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precipita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the water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are weather instruments used to measure and record weather dat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do we have storms and how are they crea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clouds and are they associated with the type of weather we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hat Goes Up Must Come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eather Video P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ion will help students develop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entury skills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ough the use of digital technology students will communicate their understanding  of weather by collaborating with their peers and producing a weather video. This will also enhance their creative writing and communication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7QDTM1KA\MCj04315970000[1].png"/>
          <p:cNvPicPr/>
          <p:nvPr/>
        </p:nvPicPr>
        <p:blipFill>
          <a:blip r:embed="rId2"/>
          <a:stretch/>
        </p:blipFill>
        <p:spPr>
          <a:xfrm>
            <a:off x="762012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Program Files\Microsoft Office\MEDIA\CAGCAT10\j0293828.wmf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urpose of the Assess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o gather information about what students already know, what they want to know and what they learned about wea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I want to Learn from my student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find out what they already know about how the water cycle and weather are related and how weather affects our everyday l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con’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I have tried to promote higher order thinkin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know if students can synthesize  the stages of the water cycle and  analyze its effect on wea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the assessment information helps me and my students plan for upcoming  activities in the un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e will revisit this assessment throughout the unit for students to add their knowled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Our  Goals for the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ways to get students to apply their knowledge of weather in their everyday l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about the different kinds of technology  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ideas with other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Student Go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how meteorologists collect and apply their data to predict wea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23:23Z</dcterms:created>
  <dc:creator> </dc:creator>
  <dc:description/>
  <dc:language>en-US</dc:language>
  <cp:lastModifiedBy>pcs</cp:lastModifiedBy>
  <dcterms:modified xsi:type="dcterms:W3CDTF">2009-05-28T16:46:45Z</dcterms:modified>
  <cp:revision>30</cp:revision>
  <dc:subject/>
  <dc:title>What Goes Up Must Come Down</dc:title>
</cp:coreProperties>
</file>